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2441575" cy="1465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69880" y="685440"/>
            <a:ext cx="5718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fld id="{CD618B8F-ABA2-4AAE-8264-82C3DD1D8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569880" y="685800"/>
            <a:ext cx="571824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fld id="{7ECA9862-19E9-474B-934A-9CAF82090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A0F-B256-46E4-9548-119582D6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040" y="341280"/>
            <a:ext cx="2197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2040" y="846720"/>
            <a:ext cx="2197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EE0-E697-41CA-9518-A58180AA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2040" y="34128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8120" y="34128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2040" y="84672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48120" y="84672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C3B-C811-4E30-89FC-7E50397C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2040" y="341280"/>
            <a:ext cx="70704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64720" y="341280"/>
            <a:ext cx="70704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7760" y="341280"/>
            <a:ext cx="70704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2040" y="846720"/>
            <a:ext cx="70704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64720" y="846720"/>
            <a:ext cx="70704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07760" y="846720"/>
            <a:ext cx="70704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611-C147-4818-8299-2F5ADD5E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2040" y="341280"/>
            <a:ext cx="21970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D53-025B-4A9F-AFB9-5D294B27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2040" y="341280"/>
            <a:ext cx="2197080" cy="9669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51B-4E8D-4F3C-8417-02AA662A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2040" y="341280"/>
            <a:ext cx="1072080" cy="9669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48120" y="341280"/>
            <a:ext cx="1072080" cy="9669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C03-1141-4EEE-AD6B-0B672E20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0BA-5577-4061-A46E-EBF45125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2040" y="58320"/>
            <a:ext cx="219708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3B5-4EAB-4E53-8536-C7B2C87E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2040" y="34128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48120" y="341280"/>
            <a:ext cx="1072080" cy="9669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2040" y="84672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4E1-5603-4CBC-BEE7-0D2381E2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2040" y="341280"/>
            <a:ext cx="1072080" cy="9669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48120" y="34128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48120" y="84672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40E-579F-47D6-AD08-0E6714B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2040" y="34128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48120" y="341280"/>
            <a:ext cx="1072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2040" y="846720"/>
            <a:ext cx="2197080" cy="4611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6C7-29D1-4C4F-BB9D-14D88BF2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040" y="341280"/>
            <a:ext cx="2197080" cy="9669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 marL="84240" indent="-8424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698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81160" indent="-5580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95280" indent="-554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507960" indent="-5544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507960" indent="-5544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507960" indent="-5544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040" y="1357200"/>
            <a:ext cx="569880" cy="7632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lstStyle>
            <a:lvl1pPr indent="0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  <a:defRPr b="0" lang="en-U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33400" y="1357200"/>
            <a:ext cx="774720" cy="7632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49240" y="1357200"/>
            <a:ext cx="569880" cy="7632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lstStyle>
            <a:lvl1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  <a:defRPr b="0" lang="en-US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fld id="{C0448E28-C7BC-4E6B-802B-415D173230AD}" type="slidenum">
              <a:rPr b="0" lang="en-US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040" y="58320"/>
            <a:ext cx="2197080" cy="2444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ctr">
            <a:noAutofit/>
          </a:bodyPr>
          <a:p>
            <a:pPr indent="0" algn="ctr">
              <a:buNone/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 To Use This Templ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2040" y="341280"/>
            <a:ext cx="2197080" cy="96696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11160" bIns="11160" anchor="t">
            <a:norm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The blank slide below will be your canvas for creating your very own horizontal logo! The slide has already been sized to work with LinkedIn’s dimensions (in this case, 100 x 60 px). Note: PowerPoint  doesn’t allow you create slides that small, so this template is actually a little bit larger (but still has the proper dimensions!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To customize this slide, you can incorporate images by using “insert picture” or “insert shape” and produce your own graphics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Once you’re done, simply go to File </a:t>
            </a:r>
            <a:r>
              <a:rPr b="0" lang="en-US" sz="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Save as Pictures. This will automatically save your slide as a picture, and you can upload it as your LinkedIn horizontal logo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12680"/>
                <a:tab algn="l" pos="225360"/>
                <a:tab algn="l" pos="33804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asy peasy </a:t>
            </a:r>
            <a:r>
              <a:rPr b="0" lang="en-US" sz="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19:08:35Z</dcterms:created>
  <dc:creator>Demond Wong</dc:creator>
  <dc:description/>
  <dc:language>en-US</dc:language>
  <cp:lastModifiedBy>Erik Devaney</cp:lastModifiedBy>
  <dcterms:modified xsi:type="dcterms:W3CDTF">2014-02-18T16:04:49Z</dcterms:modified>
  <cp:revision>11</cp:revision>
  <dc:subject/>
  <dc:title>PowerPoint Presentation</dc:title>
</cp:coreProperties>
</file>